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07C1-BB40-4C20-AF93-AE34214EE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E8E8-A24A-4F29-8D4C-2C6A26D4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D0F6-12AF-4F2B-A9DE-AC5D7DB4E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98E2-9D8F-4FC2-996F-3B34CC609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3679-1B8A-45F1-8AE4-8EED2E43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60B4-71B5-4876-97EF-F515CE8D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DEE4-9053-47A5-A995-5386D2C2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BA41-8B49-40F9-90D7-5B008B04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DFAA-7B26-4992-AD82-BDAD4DE9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045F-B7E4-4447-8166-85EC3A37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597F-51E6-4A16-B1C9-48C65DBC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4A2D-D88E-4929-B068-4A294ABA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77B3-673C-4068-AB52-77BE80C41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 1 conflic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darshan Narasimhan narasim@cise.ufl.e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gnment 1 posted to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missions electronically checked for similar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2T16:05:40Z</dcterms:created>
  <dc:creator>Preferred Customer</dc:creator>
  <dc:description/>
  <dc:language>en-US</dc:language>
  <cp:lastModifiedBy>sahni</cp:lastModifiedBy>
  <dcterms:modified xsi:type="dcterms:W3CDTF">2003-09-09T17:54:26Z</dcterms:modified>
  <cp:revision>4</cp:revision>
  <dc:subject/>
  <dc:title>Announcements</dc:title>
</cp:coreProperties>
</file>